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8A673-D5EA-4022-9452-4B9971BB809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00245-2251-4065-9A52-8DEAABF05DD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02DF0-433D-4E22-96AA-8A3C1C5E1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574E-40C9-41C5-9692-A2258B641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7427-6647-4A42-B1C9-5DCF18E9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D4A39-C56A-41B6-AD9E-10CFE1C161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088D7-3461-4520-AA05-A8519EF66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5C02A5-B3B8-43BE-BB71-462F7A393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4A763-2E56-4771-89B2-B5CDE0914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8DA263-EAB5-4416-9133-2EFAE3E44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61F50-F0CE-4787-9D43-BF0D27C1D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1418DE-9C39-4D5B-B90B-D0CB7CC710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43A5F4-2CB6-4C23-9FB8-24879352C7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9E15A6-A0A4-4690-BA52-5D8C593C82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1103FB-A2BC-4FC2-8343-3F5F40E466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3CB04-E90A-4D60-A18F-65950D2F6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D5DDEA-DA20-4DB5-8677-A25FEA8788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1FC6AE-698A-4B65-BDBA-DAFA339F06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0ED13A-5B29-4B98-B34E-F00D85A351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424A52-66C9-44F6-840E-30540AC53C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B4ADF1-2E9B-4523-9CA0-A40E99C89D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249539-C1A9-47DC-88D4-969C3A7C8E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EFF5F7-F101-4510-BC2D-DF22653CCD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AA417E-9209-498C-AB1F-D4855E401A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F81BD3-6952-43F8-8625-65CFA7D1C4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B0E2C7-93B9-4263-A7D2-CC05766DA9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7DE41-1E9A-4380-BC35-88CFBCB5C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E54277-2976-46F2-8D47-C9BD42FE8D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72E27D-4040-4F23-B5F1-E51D9A17D7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A70E01-CF7F-45E7-B54A-B0BA8BC882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16D719-FBF2-4D60-9F98-FEBC0D5627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D04FC5-4B82-4B23-A6DC-140A1D53B6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B1401-B1C6-4A66-8F2F-9722861E18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FC4977-4BFF-4EC5-9D49-2698D6A073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698956-0C59-4A45-B232-BD4D87D857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348C89-DB1D-441A-A3AB-1550588FD6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028194-5F3B-4437-8103-A116599334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E32CC88-4AF8-4F96-A883-B12C5F9336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99EBC0-9FED-4EC8-ADF3-5EE847E18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4EDFA7-54F0-41B2-84B7-9BC64853B7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C0FBD5-02EB-40C1-96F7-28E36907FF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E7B662-E7E3-4895-AB32-89991CD603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35A760-FA4A-4165-B216-D12DA96860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E245CD-EDC5-43BB-A676-BB2E52BCBE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C7F9F4-41D3-4930-9C5E-43AD4F837E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8A58E3-8CD5-44A7-B224-793DD95502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8C9988-2FDF-4ADF-B206-4E507F2125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912886-B40A-46E3-A2FD-53BEA0A459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017150C-E75A-41B4-B082-80393E30EB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9E4201-EBD1-4443-9328-B6264553BD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6E2704-F0B2-4E35-A64B-CB8BC239B8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871DAA-F629-4AF8-AA07-33D67BEAE7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A79882-F4BF-4D82-93B4-3E564B7180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6E712A-553B-4B76-BC23-46104DCE2F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D46777A-E5E4-4D95-B8E5-88C98B0228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6FB506-9A3C-4EDE-9415-17D3166A27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389F6E-63CA-4BEC-9C7A-A23AD18AEA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8A763A-175C-45F4-9B00-057AED46C0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175E87-2671-4CB3-A5A3-55B8A6FBA7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9C45822-0C8A-4B1F-8BD0-7E1CDF539E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CC0820-52D5-4484-9F71-78307184C0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9278D4-2A93-4993-84BB-59FAE85062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025929-2DC7-469A-BFAB-0158C07205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B57EB0-0286-4675-A36B-33747505F1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205A90-E932-4D1B-B81D-6F8D15FBBD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8C7DCE-36DD-4E8C-916C-9BD5DAF005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AE2D5F-8FB7-4F95-A945-9AE61321B6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F099D4-496A-4F69-A440-E4AC25CF3C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9B351D-FE9A-4703-8B4E-C86FE65503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D4AF3-5A27-4166-8932-C503178B09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916835A-0CAB-40A2-9C39-10A4289021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6480BE-2FA8-4647-A83B-87BF150A16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0B80FD-445D-449F-BA30-8AAC7DADA9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25D117-6052-4FA4-A5E0-423002B332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AC85D5-5A5D-4D46-8124-E73E488C51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CDA608-EFEE-44BC-9148-6C2C016C43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68D26F-5CFA-43E5-B8DD-DFF0E0FAFC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6BB283-1431-4243-A99C-A27D2BD3E5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AEF176-700E-4BBE-9C9D-8F2FEC26F8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C43F80-82DE-4C03-A781-D03F8E415F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CE1E37B-3E5F-40F5-93DD-AA11D26E18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E8D3E05-4662-4CE4-BD6C-B687CAEFD4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8612BC-0B63-4F24-8BD1-D4A71996B2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37570D4-9120-4DE4-BF7B-5BCEB069DE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98441C-C7A8-4F35-9DE9-001688F20A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4D0B2F-BC7B-44C6-950F-329B5D6BDF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89C54B-50EC-4541-AD8F-4222ADABFE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6F783F-1F72-43A8-B182-868EE5A380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7DCF78-6556-45F7-928F-C7C0EB2BAF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CCE20E-8BD5-4CB6-B791-7A48557C13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74BE6E-DCE6-43DA-9313-83D3118026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207A85-0B04-4596-A41F-5A944F57134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EA3779B-EBFD-4BD3-A673-A0704B6CE2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23497F5-63BE-4A06-AF18-C4E27A870B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34E2889-D2C0-43CB-9D4F-17D3F031738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B09F41-7A7B-4D08-BBA2-57161B9E44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17BFCD-C0C5-4191-AE33-9E1BB3407D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0C1D9A-1D79-42F0-B1D4-274CC7AF5E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5CD59C-146E-4BE2-A08C-30F8B78724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9414DC-65A0-4FF5-802A-C44F807EB0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6AFBB5-E14A-4D42-841E-BC1D3176C0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58A1D6-4BEF-4BCA-98A1-641DA00FB9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F1FC70-D28B-4653-83D4-7ED1907966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9390905-98FF-41F7-A226-F44D545AE6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F60AE9-48A6-41C0-B6AC-ABDE13D925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6D61472-E3DB-48C4-9806-18ECFEEBE3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6C1BE4-D5E6-4354-8DF9-54EDF967FA7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A506021-E747-4A99-ADB7-9BC750AF6CA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740E2D-8084-42C9-BEB8-DFB90143C0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8605A4-30CA-4AF5-9DD3-BA23D763ED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8C4FF9-4C4C-4FE8-BC14-C4976A9142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4B4485-E42B-4267-8B99-27E01C452E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A84E6A9-2C6A-44F4-AB63-199B244CB2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3B592F-506C-4B64-899A-22F49808ED1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18051-70CB-4068-977A-314BC0AD3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995443C-8729-4CA4-8B70-9AEE664D53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EA6A2A-7894-480A-A5E4-22F8A7D7C7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5636A3-FAFE-4F6C-8738-ED7146DCD0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AEA696-8B3F-487C-BE00-DA1CC15E79F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51BE5D-4F3C-4B8C-A4E6-DCF8211E3F5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3DBF9B5-F9C2-45C1-A48B-5FE559A4A91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5356C23-DA84-4AF0-9FFD-A0F9815E80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D09C6EB-5B19-48BB-B342-26362C429A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AD0998A-6B38-4A5B-9ABE-F241C2CD8E0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9FA91BCB-D0FB-4AE2-B58C-6F804AE6CF4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BE16EA-14D0-4700-86E0-89D57B3E8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4DDFE-9FC3-4BB6-9E00-712018F5F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0E649-01C1-4559-8B08-5A3481D14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3D244-1253-475E-BC33-F5C536335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F823D-35DB-40B2-88DC-C4FA3C4E2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EA8AE-4410-4835-887E-C645782C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440E6-48E1-4FB9-8069-6BF0B6074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51EB9-F33D-44BD-9BAE-A5C8A5CAC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FDA25-C837-4FBE-A7AD-31940774D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47608-39EF-4B11-B89D-03EA224C8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D1639-F472-4353-BBA1-87EDF4086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DE017-9A4C-431C-8771-8623BB451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CAF74-6671-467B-9D2C-5D51812A4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495F7-3EDE-48EE-AC3F-A10694F07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8A7D7-C2AC-4BAD-B767-A88B9C80E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A3870-B847-42C1-98A5-74247746D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3162-6B97-4A15-B65F-6E0FE721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DDAEB-01AB-4816-BF43-F3DB81483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D2AD1-D5C8-4777-9A38-3539AE0CB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2173E-166C-4C7A-9DBF-1005D328C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7D018-0F7E-4D95-8E9E-7D2985359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C63AD-6D1C-47C5-A959-11ED5B7D8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7CAC5-607E-40AA-B500-8E5D20E80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5196E-47F2-4111-BBF0-7DCA4B930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0C176-3B98-4B13-876D-99E40AD017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13CB9-A8FE-441A-BC61-2B4B6CF5C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8B6390-8F81-44E4-853E-669FC326B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3C6D-62DC-458D-A61D-E6A727734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1C110-1282-4D4E-A67B-20609877C0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71C3E-12F5-4BFB-8CD8-0A5FDC947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6CAE9-719B-46CB-94F1-F815B9B22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3223D-4D50-4A2F-88E6-51588E57E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DBC06-035F-47A1-9489-3919AC591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7344F-2D00-44E7-8F9F-78277AF51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ACE1C-470E-4B79-9787-5550F2FE5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8EDC6-2123-4AF6-A24D-1D63E0498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CD01A-8FD1-4463-874C-4135BED70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F7478C-F6FA-4741-881C-0C264B56D4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ED6B-C664-4432-B1AD-5271DB19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FE18D9-5D9F-404B-A714-661A597392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FB058D-25CE-438D-90BF-946C5C68E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63618-B9D7-4F54-A315-A091517D2D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7E51E-DBE8-45FE-9589-CECC5D8550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2DB1B-ACA2-442B-A275-90F4D2A93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DBA63-871D-4255-BD1B-8F75C1E9D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B06E2-9287-43CF-AF5E-6799A7364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D8E32-19C8-4058-8970-69C6DBA83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93330-2197-4653-9094-39366E587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3AB24-F70A-4DC2-80FF-4B991630B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FEFB-3EE0-43A0-A27C-3FC33874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BE4E93-0FE1-487C-9605-7388FE26F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04C90-9C38-484F-A94E-978967725A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981A38-6BD1-4835-95BF-BB6153792A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9D15A0-A347-4410-83F9-A9FDF91819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85E33-7C52-4086-BE10-77AD93DC9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7709D-DD9C-4311-B4F4-BF7975215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65DA5-2223-41B4-92C9-049EFD4347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BFC903-E2FD-4606-9965-47B78F800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075DC-1CF6-4F6E-AC9A-40E88FD47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21F1D-6E0B-4E79-96BB-8ADC782CA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4340-BD2A-4509-A53C-0D7549E2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96E32-69DD-4BE5-9D48-37BBF39BD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BA783-B21E-44A8-8A56-AD3FAF11A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73066-D9B7-4DAA-AE07-AB79A47B2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F63A7-A4A7-4F33-A04C-B610C0616E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106E81-9591-4DF9-B54F-02126A0DBF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E7503E-5C45-46F6-87EA-E6CE36A8C9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62EAF-F210-4306-A9A4-3532014655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FC96AD-3CB6-430E-A8B0-B0E5E8D0B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374D5A-DF56-4068-BC0C-E9BFBD2EE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8864E-7196-478E-9214-F3DB25D7D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3155-77ED-4EF1-AF85-DC92D24A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219AD-AFE5-4C1B-A116-52A7781D9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24FA7-E14A-4647-ADFB-0DD05B7F7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43F2A-C542-410A-9835-5BED054B0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AD25B-161A-4B8A-AF74-E5A3964C0C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F5D8D-EA3C-4FD3-8F75-B58622A93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51D7B0-F552-4413-A930-1097E4992B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9CCC29-3E4D-4D22-A28C-69DB5CC303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525D01-CCB2-418C-A989-11F418A1E5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F9FBF-3F58-45BA-A7E9-130160E39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5C650E-E334-4DEB-816D-805A7F6A31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1EEA1-B1CE-4E34-B91E-C70B87B3E57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1E3E2-340D-45AD-8EC2-74B77A8968C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0F678-A04E-4827-B386-12372F962F49}"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F43C5-D631-4449-8831-CA91CE0A259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775D9-6F07-4306-8588-542F2B787A8E}"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17352-4266-4D94-A6B9-9CFB0A31AB3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C3830-20CB-4CDA-9F70-D5D7EAB49986}"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3D4FB-4E03-48C6-B35C-0AE328A9688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AF43C-90F4-4733-B752-74124EF9E0B9}"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E14D2-5D14-4E39-89D6-C98BC8F0674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A8F53-1B59-4C49-84D4-BE9FE0781C07}"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C0016-8A07-4A6F-93B3-09C0FD7482C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02986-B663-4CD2-9285-335F109867E3}"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79CFD-3FB4-4F97-9D39-B731A94FCAB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958F1-E62A-43BF-B709-8F19AD1EF0C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2524E-DA28-49C8-8921-2A3F7188681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E8345-003A-4A5D-BE17-687350A611B5}"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7BA58-E20C-48EA-A259-9EA10B17929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F55EB-BF9F-4EE5-BFC0-2B8B9B57149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3271D-BB6D-4B60-AB2B-080456F8E8D3}"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E925C-AA8A-4C0A-98A6-D06326272C17}"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2027E-6721-4C7B-8DC0-DBBCB86E046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A6223-CC96-4F67-BE4C-BA01898FB675}"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12331-3F5F-4851-9229-975E2D7138C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7FEF4-95A3-4F70-944A-28800A4B4B3F}"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31D25-D29E-4917-923A-2273325088B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86152-B65D-4401-8276-BDCC8DC2E73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DB763-9B91-4ABA-A94D-5234583AEDD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C45D0-B7EB-4BA0-82F3-45BC7B956314}"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B2CC8-D7AC-4847-8D4D-6E31A664EA6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C6E79-01CB-41E7-9F0A-B2CD6EFADBDE}"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401F2-6F4D-436B-AE1E-783C6C38B28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726AF-29B0-48CC-A230-2BAEB276CD9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6801B-EBEC-4733-AAF6-4D203EF9F7E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ping crime, and they will make technology that can hear sounds of gunfire and set hotspots that can stop murder. They are working to stop all murder to the best of their ability.</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have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Whether you do believe or not, police officers and Ceasefire are working on stopping crime and they are never giving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n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23652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604440" y="294840"/>
            <a:ext cx="7583400" cy="604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6.Police like to tell that trusted people in the  community who know this gang to convince felons to put down gun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10. Because Oakland has not had police academies since 2008, police force has declined and they are using retirement rates to save money.</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9:41:41Z</dcterms:created>
  <dc:creator>admin</dc:creator>
  <dc:description/>
  <dc:language>en-US</dc:language>
  <cp:lastModifiedBy>admin</cp:lastModifiedBy>
  <dcterms:modified xsi:type="dcterms:W3CDTF">2011-10-11T12:50:12Z</dcterms:modified>
  <cp:revision>6</cp:revision>
  <dc:subject/>
  <dc:title>Crime Investigation</dc:title>
</cp:coreProperties>
</file>